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A20D-F31D-486B-9BE4-93C51FC0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06EE-C206-4051-8026-2824FC7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4329-CF6F-44B8-9718-CD7F4F3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053E-3340-455C-A900-53FDDA34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7AF-CF7C-4D45-8001-8B4AE7A8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2E81-B5FF-46A5-BA1A-E153B33B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983-F064-48D5-8B59-F111FB9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5760-C356-4AD3-AD18-B0B2D21C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223-C413-4E9A-AB47-6D2099B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649C-F629-46FE-85C6-8C64DCAB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693C-E4A2-4130-B8FF-0CDEAC3F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02E9-9B09-4FF1-9F88-5D690B6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40E1-F3DB-44D5-8C5D-C16A25E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8593-642F-45DE-ACC8-6CE23663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F92-B516-40AA-936D-94EDA84D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81E-8953-4F47-825E-9286B4A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E0D9-9709-4498-98C9-D4E28495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55C6-9379-48FB-B14E-7F9FD8F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96F5-441D-45A1-A711-DF63E91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1F9B-25B3-44EC-8F69-70669024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6DC7-6319-4461-BB49-2BA23D9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8263-C6E5-4C43-A494-2C27979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ACBA-1A01-4467-BEBF-51650B3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A872-422A-48C4-965D-373940F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50B6-19EF-4D04-AC44-AF9160F5A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C9C-6F01-4372-8080-486DB97F8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 şi motore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50:45Z</dcterms:modified>
  <cp:revision>6</cp:revision>
  <dc:subject/>
  <dc:title>Petrolul mişcă omenirea</dc:title>
</cp:coreProperties>
</file>